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0458-578E-41E3-840D-22B4E5DE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24DD-991C-45B1-9CC8-75B4E8B5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90E-B140-40E2-AA49-970E12F6D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7C38-4639-440A-AB0B-DB30A7CAE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443-ED1B-428B-A2A4-26663958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203A-8BB7-44F7-8BAB-337B11052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122-84E9-4CF8-8A97-E2C882EB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15A-D120-4841-AFBF-019D219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5D4-0956-4A33-8AEC-96974D87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C1F-781F-44C0-A14F-BD2A2D35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D20-CBF4-43EB-8ADD-4F830F89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44A-0710-46E3-A9FF-F0B5C355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338-665C-40C9-AC23-D976AF5C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6EB-8A21-474A-A19A-A0A2957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463-C151-43EF-865F-6293928B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18A-813C-4915-9934-854E2CEC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7CE-3F9B-444F-A906-4B70C211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16D-D425-4B55-85F5-5AF78DDA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9866-AE33-4E91-B39F-20F1F4912D2A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900000" y="1628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СТУДЕНTСКА ПРAKС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00000" y="2852640"/>
            <a:ext cx="7559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А ДОЗА И КОМПАТИБИЛНОСТИ ПРИСУТНИХ СУПСТАНЦИ У МАГИСТРАЛНОМ РЕЦЕПТУ – РАСТВОРИ, СУСПЕНЗИЈЕ, ЕМУЛЗИЈЕ, СУПОЗИТОР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268360" y="566100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. др Ана Барјактарев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252720" y="1312560"/>
            <a:ext cx="91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thae piperite aetherole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 Jug. IV): s.p.d. = 0,1 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0 = x : 5            x =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&lt;  0,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растворљивости за фолкод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оста тешко растворан у води (1 g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у 30 – 100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x = 2,4 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,9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2803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95280" y="227664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95280" y="1557360"/>
            <a:ext cx="85694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успензије су течни, грубо диспеpзни,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вофазни систем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који представљају дисперзије једне или више чврстих супстанци у неком течном или получврстом вехикулуму у коме се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е растварају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спршена фаз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исперз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нутрашњ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исконтинуирана или отворена фаз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за у којој је извршено дисперговањ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исперзно средств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пољашњ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нтинуирана или затворена фаз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ехикулу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ехикулум: вода или водени раствори; неводени који се мешају са водом (глицерол, алкохол итд.)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водени који се не мешају са водом (биљна и минерална уља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p/ Ichtyoli    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ci vene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i              aa           15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i diluti    aa   ad  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uspen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сп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компоненте препарата су међусобно компатибил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284720" y="3284640"/>
            <a:ext cx="2879640" cy="36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а концентрациј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onii sulfogyrodal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): 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. =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F 2008):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. =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– 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5 : 150 = x : 100            x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%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: 100 = x : 150               x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um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): 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. =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Ф 2008):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. =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: 150 = x : 100            x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%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=  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p/ Ichtyoli    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5,00 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ci vene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i              aa           15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i diluti    aa   ad  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uspen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сп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"/>
          <p:cNvSpPr/>
          <p:nvPr/>
        </p:nvSpPr>
        <p:spPr>
          <a:xfrm flipV="1">
            <a:off x="5219640" y="13413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Rp/     Sulfadiazini                   1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ulfadimethoxini           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ulfafurazoli                   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orbitoli                          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Citri aetherolei                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Aethanoli conc.             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irupi simplicis      ad     5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M.f. suspensi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D.S. 2x2  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фене кашичи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4360" y="558972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9640" y="558972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ве компоненте препарата су м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собно компатибил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076720" y="2708280"/>
            <a:ext cx="2590920" cy="36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а дозирањ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† 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lfadiazin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Jug. IV)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g &lt;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ан 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p.d.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g &lt;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d.d. = 7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50 = x : 10         x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а доза: 2,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x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x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† 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lfadimethoxin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Jug. IV)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4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ан 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p.d.= 1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4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d.d. = 3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8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: 50 = x : 10            x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g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а доза: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g x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2" marL="19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lfa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razol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Jug. IV):       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ан 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p.d.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d.d.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50 = x : 10            x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а доза: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x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6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rbitol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Jug. IV)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н 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50 = x : 10            x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0676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Rp/     Sulfadiazini                   1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5,00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Б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ulfadimethoxini           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ulfafurazoli                   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orbitoli                          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Citri aetherolei                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Aethanoli conc.             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irupi simpli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ad   5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M.f. suspensi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D.S. 2x2  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фене кашичи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558972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5"/>
          <p:cNvSpPr/>
          <p:nvPr/>
        </p:nvSpPr>
        <p:spPr>
          <a:xfrm flipV="1">
            <a:off x="5292720" y="1341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МУЛЗ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MUL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зије су хетерогене дисперзије две течне фазе (уље и вода) које се не мешају, где је једна фаза у виду капи диспергована у другој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компоненте емулзије: водена фаза, уљана фаза и емулг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емулзије: У/В, В/У, вишеструке У/В/У и В/У/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за спољашњу, унутрашњу и парентералну употреб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744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, бистри препарати који садр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једну или в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лековитих супстанци растворених у одговарај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 раствар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(Ph. Jug. IV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aр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a, 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нoл, глицерол, биљна или минерална 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aр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solvens; растворена супстанцa / solvendum; раствор / solu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за спољашњу, унутрашњу и парентералну примен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9640" y="1197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ТВОРИ – SOLUTIONES MEDIC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Rp/     Magnesii sulphatis        3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Sirupi simplicis          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Emulsio oleosae            8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M.f. emulsi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D.S. 3 x 1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ш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4221000"/>
            <a:ext cx="8137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ве компоненте препарата су м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собно компатибилн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а дозирањ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gnesi sulfa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Ph. Jug. IV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p.d = 10 g &gt; 3,46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ло лако растворан у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x : 15     x =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,46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mulsio oleos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lei                                 10,0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ummi arabici                  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quae purificatae   ad  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68360" y="3213000"/>
          <a:ext cx="4826160" cy="307836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</a:tblGrid>
              <a:tr h="175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  8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3"/>
          <p:cNvSpPr/>
          <p:nvPr/>
        </p:nvSpPr>
        <p:spPr>
          <a:xfrm>
            <a:off x="395280" y="2205000"/>
            <a:ext cx="8064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463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 –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S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 препарати лекова намењени за ректалну прим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могу бити растворене, суспендоване или емулговане у одговарајућој подло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: естри глицерола и хидрираних биљних виших масних киселина, макроголи, какаово масло и глицерол-желатинска под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: адсорбенси, ПАМ, лубриканси, конзерванси и б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5183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/     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enzocain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        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inci oxydi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Witepsoli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        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.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M.f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pp. D.t.d. 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X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S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позиторију дне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4508640"/>
            <a:ext cx="82090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ве компоненте препарата су м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собно компатибилн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а концентраци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ethylis aminobenzo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Jug. IV): s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. =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,08 : 2 = x : 100            x =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4 % &lt; 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inci oxydu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Ph. Jug. IV):   s.conc. = 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,15 : 2 = x : 100            x =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7,5 %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sr-Latn-CS" sz="28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рачун потребне количине под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потребно узети у обзир фактор истискивања (Ф.И = 4,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4,7 : 1 =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,15 : x      x = 0,032g      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12 = 0,384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2x2 = 24 – (0,08x12 + 0,384) = 22,65g +20% = 27,18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3628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/   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racetamol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    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2,20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Witepsoli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        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.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         M.f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pp. Div.in dos.aeq. 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X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S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 6 сати по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позитор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4000" y="3284640"/>
            <a:ext cx="835164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ве компоненте препарата су м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собно компатибилн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а дозирања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racetamolu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(Ph.Jug. IV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.p.d =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0,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 &gt;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.p.d.=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 &gt;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2,2 : 11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0,2 g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             n.d.d. =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 &gt;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0,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0,2 x 4 = 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0,8 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а фармакопеја 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.Jug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a per o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a ad usum dermi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i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i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es ad irrigati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Anaestes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aini chloridi  aa    0,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holi                      0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i diluti    ad  2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olu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сп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компоненте препарата су ме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бно компатибил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а концентрације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ethylis aminobenzo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Jug. IV): s.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. = 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: 20 = x : 100            x 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sto MT"/>
                <a:ea typeface="Times New Roman"/>
              </a:rPr>
              <a:t>&lt;    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51280" y="4437000"/>
            <a:ext cx="280836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5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aini chlorid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Jug. IV): 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. = 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: 20 = x : 100            x =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&lt;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thol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Jug IV): s.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. = 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0 = x : 100            x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= x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x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g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ђење на средњу кон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Anaestes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aini chloridi  aa    0,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holi                      0,50   0,40  </a:t>
            </a:r>
            <a:r>
              <a:rPr b="0" i="1" lang="en-US" sz="2800" spc="-1" strike="noStrike">
                <a:solidFill>
                  <a:srgbClr val="000000"/>
                </a:solidFill>
                <a:latin typeface="ItalicT"/>
                <a:ea typeface="Times New Roman"/>
              </a:rPr>
              <a:t>А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i diluti    ad  2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olu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сп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3"/>
          <p:cNvSpPr/>
          <p:nvPr/>
        </p:nvSpPr>
        <p:spPr>
          <a:xfrm flipV="1">
            <a:off x="4572000" y="220464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09680" y="1197000"/>
            <a:ext cx="8339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растворљив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estesinum – лако растворан у етанолу (1 g се растварa у 2 – 10 g етанол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g &lt;</a:t>
            </a:r>
            <a:r>
              <a:rPr b="0" lang="en-US" sz="2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2 g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Procaini chloridu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умерено растворљив у етанолу (1 g се раствара у 1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30 g 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нола</a:t>
            </a:r>
            <a:r>
              <a:rPr b="0" lang="en-US" sz="2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x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 &lt; 19,2 g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ntholu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врло лако растворљив у етанолу (1 g се раствара у мање од 2 g етанол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x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g &lt; 19,2 g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рачун за израду разблаженог етан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требно је 19,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70%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h.Jug IV: 67g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67 : 100 = x : 19,2           x = 12,86g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ц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3 : 100 = x : 19,2           x = 6,34 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9152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Pholcodini                               0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hae piperite aetherolei    1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         ad   1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olu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3 пута дневно по 1 к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216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68360" y="3573360"/>
            <a:ext cx="7848720" cy="38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е компоненте препарата су м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обно компатибил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вера дозирањ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†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olcodinu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Ph. Jug. IV):     s.p.d = 0,015 g &gt; 0,00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астворан у H</a:t>
            </a:r>
            <a:r>
              <a:rPr b="0" lang="sr-Latn-C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.p.d.= 0,03 g &gt; 0,00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.d.d. = 0,1 g &gt; 0,012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08 : 100 = x : 5            x =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004g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3 x 0,004 =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0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ca</cp:lastModifiedBy>
  <dcterms:modified xsi:type="dcterms:W3CDTF">2019-01-29T16:33:18Z</dcterms:modified>
  <cp:revision>175</cp:revision>
  <dc:subject/>
  <dc:title>Slide 1</dc:title>
</cp:coreProperties>
</file>